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491-EA33-45E5-ADE7-FF69F443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A7D-ED85-4257-8B8A-FCC037DB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AF9476-3FDC-421C-BB63-76C178F0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ECBCDA-31D1-4857-BFA1-ABBE41E7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8B1E82-DA27-41A8-A81C-CDC741BE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F8864D-54AE-4BFB-981C-C6886B9B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92A3B5-8A85-4B66-9B5B-DD58E4AB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6D2B6A-C337-4793-9948-A56FC042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17C383-3D57-468D-919E-7224030C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B0AE8-0B4C-4FD0-B85B-8CE82F85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CE1723-CD60-4151-B956-FFA99989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03406-3839-45A3-BEC8-5663FC41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64A-D3A7-4F5B-A373-0C36E7E2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7B1AD-2DA8-4882-95E4-D7D6CF64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D5926-63A7-43B9-BDDD-143D9CC7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8AF33-FF23-48E6-8B7D-75FBB680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2D658-AA4B-4CE1-8ACA-04E61E3E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D20EB-02E8-411D-9ABC-A59F0D3E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242CB-E140-4CA5-B95A-09C61F89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6CB40-0DF1-4B0A-8262-6C0F9F1E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48883-DF59-4330-8324-23ED9D38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B1F32-7ED0-490D-B983-0C1123EE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58037-63AB-4317-81DC-BC56F6A98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95B-1C02-4CCF-92EE-072A360D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03CA2-DEC8-4E99-A3D1-254AAD06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3BC1-51FB-480F-A641-FFFE6678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AFE4-575E-4E58-8E5F-28FEF914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44C1-0031-4ECD-A856-0B43F80A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866D-0A34-4510-899B-6530B38F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870A-282D-4510-BC9A-DBB1D1A1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BEE4-7D97-4947-AB8A-FD596D27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5956-E292-4DF0-9790-7E93F31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81F-43E6-42CA-BBD5-5D5B2857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CF29-AC54-4DB1-90B2-FE00D22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6509-3035-4728-9FB8-C26DC9F6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9079-3D90-459D-A96D-153E7512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8D68-2FA5-45CC-BA35-F9C58DD4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C263-6457-475B-B974-68C67492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F3451-9F8C-4C1A-9399-481829CE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79243-E0A8-4308-B5E5-8247DD3A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6CE7F-55E1-4869-8E70-07B24B41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2B3D9-2EA9-4682-9DE1-D4431255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9FCFF-6E8F-45FA-97AB-E6074394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CF5-AD16-4AB9-AA1C-96640282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E922A-07FF-4415-B1FF-DBB684DE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1F7688-82AF-40FF-8BC8-36952C2A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4B5E3-781C-4373-AB48-04A53F3D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F782D-90C8-4501-BEDD-82B9B662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91BC8-21F2-4B77-B6E6-C78F80E6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05F55-79C8-4326-B8A4-C3C8AB7F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09EFB-FFD7-44FD-A30F-C556D373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9BD2D-A981-4955-B605-854D0495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496D4-58AE-4148-BC93-DB58427C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4CA7E-C24D-4C51-9F79-CEAF415B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401-162B-4375-9914-E78BCA7B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E720B-512A-4417-8399-71019A46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CBAE-1FB2-4C43-860F-6D6075F0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2020-84B3-4FC8-8719-B5CFE710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3CECE-EAA4-469F-B1B0-4FDDAF5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0DFCA-3AAF-4CD0-9AD3-598E23E5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9DD9-328C-42BB-900D-C897FA16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689E8-C54B-47A9-8109-6C0523BD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4E5C6-8475-4594-88C7-78B5327B5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6BE3B-F3CF-43B5-8E76-0B23427D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ED817-F04F-4881-8248-60EA88610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584-CD6C-4C7F-B5C1-8456A417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DE91-E4B4-44AD-BCFD-2DCBF3C7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58D9-5224-49C2-A7B9-F29B827F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5544D-1E77-4808-B445-83E59587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A0B09-82B6-4DC8-A40A-EE315281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82C8-B549-4FAE-93BE-3A99F549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60331-E464-4A7B-A58D-97D5CBB7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41FB0-4811-4B20-9CC5-5F66BA07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47CD9-B2E7-4F5B-8B58-81C7095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5D43-C008-4FBD-87EE-EEDAD1E2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65B26-BD6F-4777-BAAF-CD9E1413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5A9-9BCF-4CDD-B12B-EDEFA603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B2633-0C0F-455D-AF7F-68A02B73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6C1A3-6FC2-4D03-88DD-BBD60DFD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9746-0400-4F4E-870E-5F63FD72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BCD6F-BEEF-4CCA-89E8-7128AAD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3F21F-C189-42BC-BE33-60A6D083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441F0-6B2D-4845-9E38-E3231B55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3B7BB-B176-4D92-8C38-46F29F5F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F1798-26EC-4AE3-BEF8-95B53D13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124ED-E4F6-40CD-B843-3DDE2550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FC8DE-85D8-4B98-B732-A982F4BA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1FA-917C-42BC-9FBE-AA7D8A12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E2883-50FE-4638-9957-474652E0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F6F94-396B-43B4-9C69-E5239F85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39226-F230-4BA7-8488-301F27B0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51FD6-5A0C-4E43-B029-E873D2B4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C4EEC-41EF-408A-9B15-E0BA4663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F9C0F-9697-4D3D-A071-8D321CB6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C1EB0-ADDC-4A83-9064-1BA4A6C3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1D0D4-E3C7-4F5F-A9F0-021F7444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BFB13-AA5E-49E5-8FDB-D2E3289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6843C-AEDE-4A24-984F-77116A6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960-80CE-410C-9709-858A206E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A8C92-D703-4DD7-8BA4-A5F161CF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09F55-F504-4D75-8971-CCC320E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79B76-0A58-4270-9EC6-FC55C06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D3C4-DC1D-457D-9C26-4EA858EC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EA3EF-073B-4CFD-9E9D-B15DE074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9B2CF-C60B-456F-9E84-C3470F42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C7316-5CB6-4AF6-B9B8-FF4195E5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9B89-842D-4680-BD5C-3532715A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23BFC-F66B-4115-8162-903AA4E1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2333E-C03E-4D8B-9066-3AD9B741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FCA-ED22-49CE-BF93-3BDDA578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73447-974B-45B9-8DAB-ADC22511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FE994-2FF2-4A2E-B353-1192ED30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6428A-0089-411C-8BB9-8010FA1B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5FFFF-610C-44F9-8190-CCD5F176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217C7-502B-4E07-881D-C4534FB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9C269-1C85-4973-8D6D-A760DE0B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D953B-FA0D-4A01-92E3-777191E0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9FFACC-59FF-42BB-9DE7-0C8844BB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211EE3-9C4A-4ACC-B299-9D55DBC1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C46F2-500C-410C-8FD5-CF3364D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AE21-4AB2-4CF3-8992-26B92094D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3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166D-BB26-468B-AC45-2D737900932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578A-4B72-426D-A658-2213F2B94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3C2E-BD5C-4DC5-939F-7594A2F040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4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4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20D4-13E1-4F18-8C40-AAD6E4CB15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1380-8340-4C50-AF84-E44E37D70F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9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0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1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1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51D5-83CD-4702-8F72-CF1042155C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8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9D3-39A5-4932-AE43-16F55E9072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2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D1CE-EB70-4E1A-A117-A086A40843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7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6922-A905-4C7F-97FE-475393AD34D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The differences in peopl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332000" y="5950080"/>
            <a:ext cx="64008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5e0ef"/>
                </a:solidFill>
                <a:latin typeface="Tahoma"/>
              </a:rPr>
              <a:t>Done by Jessi Carro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9034560" y="765000"/>
          <a:ext cx="109440" cy="1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4560" y="765000"/>
                    <a:ext cx="109440" cy="1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7524720" y="4292640"/>
            <a:ext cx="1163520" cy="18270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 rot="1461600">
            <a:off x="1631520" y="3265560"/>
            <a:ext cx="58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ee4c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12ee4c"/>
                </a:solidFill>
                <a:latin typeface="Arial"/>
              </a:rPr>
              <a:t>Children                     to                  ad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4"/>
          <a:stretch/>
        </p:blipFill>
        <p:spPr>
          <a:xfrm>
            <a:off x="324000" y="981000"/>
            <a:ext cx="127476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List off different things 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g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rink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V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obbi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slow" advTm="6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000066"/>
                </a:solidFill>
                <a:latin typeface="Arial Black"/>
              </a:rPr>
              <a:t>grown ups        children                                                                   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0" y="1268280"/>
            <a:ext cx="4038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AGE=18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DRINKS=all types off fizz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FOOD=JUNK FO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MUSIC=ROCK POP KOOL ST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TV=CIDS ST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.HOBBIES=BEYING LAZ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572000" y="189000"/>
            <a:ext cx="0" cy="136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42920" y="1268280"/>
            <a:ext cx="34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26920" y="1268280"/>
            <a:ext cx="374508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AGE=19+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DRINKS=alcoh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FOOD=HELTHEY VEGT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MUSIC=OLD STUFF SOME AND N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TV=BORING STUF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.HOBBIES=GOING OUT A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reasons why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739b9"/>
                </a:solidFill>
                <a:latin typeface="Garamond"/>
              </a:rPr>
              <a:t>The reason people are different to each other is because we grow up and change are minds in are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739b9"/>
                </a:solidFill>
                <a:uFillTx/>
                <a:latin typeface="Garamond"/>
              </a:rPr>
              <a:t>Like kids do different stuff to adults like go see there friends allo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739b9"/>
                </a:solidFill>
                <a:uFillTx/>
                <a:latin typeface="Garamond"/>
              </a:rPr>
              <a:t>And grown ups like to watch boring stuff and do see much off there friends because they do work and we don'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 advTm="6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end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Tahoma"/>
              </a:rPr>
              <a:t>Thank you for watching my slid show on the difference in people because it is nice to know how people are and what they do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spcBef>
                <a:spcPts val="1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f25a"/>
                </a:solidFill>
                <a:latin typeface="Tahoma"/>
              </a:rPr>
              <a:t>Done by jessi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1T20:23:54Z</dcterms:created>
  <dc:creator>jessi</dc:creator>
  <dc:description/>
  <dc:language>en-US</dc:language>
  <cp:lastModifiedBy>Guest</cp:lastModifiedBy>
  <dcterms:modified xsi:type="dcterms:W3CDTF">2005-07-03T20:33:58Z</dcterms:modified>
  <cp:revision>4</cp:revision>
  <dc:subject/>
  <dc:title>The differences in people </dc:title>
</cp:coreProperties>
</file>